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989-05AE-4213-8FD4-2E9EB1D3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701-4ED9-461C-A1CA-572F8EF16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4818-8B35-4792-9B58-1FD266DE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C53D-48A3-48C2-8CC8-9B3F8BEE7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BD92-8F58-40E2-8613-0D53CDC22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F07-F23C-4EC6-9401-E1B93757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A259-3B47-4614-976D-041037FE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D3A4-D0AC-4844-805C-ED006535D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C44A-587F-4DC1-B549-AB794A6B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EC1-38F9-460C-AE84-F24870DF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4D8-7C43-4B52-96F2-819EFEF65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EA5-6A74-47BB-B14A-D9C3B839C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E38-4CCE-4E3A-9196-6C222EEA7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C5E4-AE0F-4B6E-976E-3F1B852D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91C-C786-4963-8138-B1B37E6F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8C0-6614-4C63-86E4-12D7A1414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46F4-00BA-41CA-A247-83017974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4E9-3C40-4AE9-84DF-8ED10DB0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8FD-3144-4EC2-91F6-9C869483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6C2-0927-4CBE-B69B-56933205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9A1-54C0-496A-BCCC-D9B7B8B8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FD0D-B5D0-40A1-B2B9-7F083132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AFEE-5CA9-4710-82E0-3F99ED6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ADF-B193-452B-A909-737DFDB5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2B03-5250-4DB8-BD34-0EA8E1A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A0A2-975A-4D3D-820A-F2124614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957-0B83-4D0A-8CD4-99B5C8F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144F-11F6-411A-ACF0-2ED2DF0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B95-CAE9-4C4B-A6BB-EFF66DA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3DF-1A40-4C76-A84F-C60ADDA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220A-2D85-45D7-8E62-74DCBF4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4881-280C-400C-869C-31E3941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647-6D00-4A0E-88E5-1CA8B146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CFC3-B7FE-4DEE-8FD7-652BA77E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8519-8C14-4CBB-9016-EFCDA3EC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A798-D973-4F9A-985F-512A7A3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94F0-5530-4141-8BD7-F13C5EC3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BF6F-1D21-4082-BD46-4D2C4FD5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5E3C-3041-4A41-B007-39DB11B4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D9A-1267-49A7-8F62-B76FF8BC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F300-F95B-4AD9-AB03-762E5321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EA88-1E84-49AA-8BDB-4F74936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00F4-1CD9-492A-A6B3-460F530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814C-A9FE-478E-9199-8239076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6690-5759-4AD4-8600-92DAD73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0C6A-DA90-4B7B-9CD2-77E056F8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0B4B-9407-411E-B2A2-1F83CE99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25740-0FB5-4901-BAFD-E0721D4B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A1FE-D1A8-433C-8D5C-96747C54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4BC7-8EA0-4C05-B57B-7BDCE728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337-FA04-4B4A-98C6-3B372F99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FFF6-DCA7-473F-934F-CB896D7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81E8-B2B8-4E09-BD30-470FDEE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CE97-EE69-4B5A-8059-BE95F516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426E-8AFC-4DAA-A4DB-1FF7540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30A5-06C0-4395-B7FB-D1F5CB8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B23D-BE2D-495C-9378-60C81A2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B334-1A7B-4F06-A1DD-8FCB12C7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D397-4F67-44B0-98AA-C5607B46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01C8C-C51B-470A-A4D4-DA1C1064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8C8-2D9C-47AB-A46C-9744D9F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C6E-CF60-4D8F-9278-3E23B60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B8D-2A02-4781-917E-7C30DAF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E41-9B8B-4A08-887B-9AA2436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8E4-9F95-4FD8-B465-F9BA497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E471-932D-49C7-AF73-A67E97228E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FE9-DEDB-4F9D-9136-443B1474A5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865A-F965-406E-B719-4292C67C125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15EB-1A9C-47BD-888F-FC297E2346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2080" cy="196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436760" y="40384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S – UNITE 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Où  / res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ù est-ce que tu es rest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à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Combien de temps  / res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bien de temps est-ce que tu es rest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trois jours/ une semaine/ un mo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e/ visi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’est-ce que tu as visit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Sortir/ souvent le soi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st-ce que tu es sorti (e) souvent le soi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e/ achet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’est-ce que tu as achet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_______________ 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Quand/ rentr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uand est-ce que tu es rentré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 hier, la semaine dernière, etc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611280" y="220500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er de rô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11280" y="2205000"/>
            <a:ext cx="79930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ous rentrez de vacances et vous téléphonez à votre ami pour lui raconter vos vac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â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aconter vos vac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otre 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oser des questions – répondre aux questions en utilisant le passé compos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611280" y="2205000"/>
            <a:ext cx="7993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bonne métho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ention : est-ce un verbe avec être ou avoir au passé compos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ur poser les questions, utiliser “ est-ce- qu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611280" y="2205000"/>
            <a:ext cx="7993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è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ù / all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 : Où est-ce que tu es allé 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Je suis allé (e) à …….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611280" y="2205000"/>
            <a:ext cx="799308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avez comp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lons-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11280" y="2205000"/>
            <a:ext cx="7993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 . Où / al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 : Je ………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Avec qui/ parti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332000" y="285264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vec qui est-ce que tu es part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ave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Comment / voyag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332000" y="28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entest-ce que tu as voyag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1116000" y="4365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’  _______________ en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14040" y="0"/>
            <a:ext cx="79246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Les vacances de printemp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486400" y="1981080"/>
            <a:ext cx="3276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684360" y="213372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:  à quelle heure / arri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1332000" y="285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À quelle heure est-ce que tu es arrivé (e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1116000" y="4365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:  Je  _______________ à ……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1:12:35Z</dcterms:created>
  <dc:creator>Mr. Smith</dc:creator>
  <dc:description/>
  <dc:language>en-US</dc:language>
  <cp:lastModifiedBy>Viviane Grebert</cp:lastModifiedBy>
  <dcterms:modified xsi:type="dcterms:W3CDTF">2012-01-07T21:21:10Z</dcterms:modified>
  <cp:revision>90</cp:revision>
  <dc:subject/>
  <dc:title>La Touraine</dc:title>
</cp:coreProperties>
</file>